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2ED2-2788-4E40-B6C4-50A2A5FB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E89-E3B6-450A-B9EF-66EB8CF4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1E0-1CAF-47E2-AD85-876D0D7A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19D-A00E-40FD-9B06-3CBF0CAD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500-F9FF-4D42-BACF-ABD7FED3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374-D0FE-4D89-9890-451842E7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F1D-AE7E-4296-A588-5F2A62AA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4CE4-33DD-4EEC-8A6F-7D0E5137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740-E7E3-4232-8646-3C2C7453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024-8747-4C77-B111-D2824C14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E23-E64A-4C67-972A-8A55AEDE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A6D-7DA4-4762-A4AA-CF5AD227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262E-271D-4C4C-824C-697BB179C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8 NV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5 de diciem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21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el Examen del capitulo 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bject pronou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you use in the following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lk about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lk to the director of a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lk to a group of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re a boy and you’re talking about yourself and a group of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re taking to your best 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re a girl and you’re talking about yourself an a group of your girl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98200" y="3200400"/>
            <a:ext cx="633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98200" y="3733920"/>
            <a:ext cx="752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65240" y="4114800"/>
            <a:ext cx="950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90160" y="4952880"/>
            <a:ext cx="1739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22440" y="5257800"/>
            <a:ext cx="613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04200" y="6338880"/>
            <a:ext cx="1721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oso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pas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pas 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 pas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 pas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a pas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tedes pas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 pas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2360" y="1600200"/>
            <a:ext cx="3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8320" y="2209680"/>
            <a:ext cx="57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8320" y="2743200"/>
            <a:ext cx="37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9720" y="3352680"/>
            <a:ext cx="37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54280" y="3962520"/>
            <a:ext cx="37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3960" y="4495680"/>
            <a:ext cx="110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3440" y="5105520"/>
            <a:ext cx="59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3600" y="5638680"/>
            <a:ext cx="59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scucha y escri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41320" y="1371600"/>
            <a:ext cx="2273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llos hab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43480" y="1981080"/>
            <a:ext cx="3439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osotros entr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2760" y="2514600"/>
            <a:ext cx="355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os animales p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971800"/>
            <a:ext cx="5486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a muchacha c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350532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os hombres trabaj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4038480"/>
            <a:ext cx="426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sted comp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8720" y="4648320"/>
            <a:ext cx="2174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o escu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0960" y="5257800"/>
            <a:ext cx="1721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ú bai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7640" y="5715000"/>
            <a:ext cx="2116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o pra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95400" y="6172200"/>
            <a:ext cx="3675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l profesor pregu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________ habla Quchua en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________ contesto al poli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________ compras muchos rega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________ deseamos muchos rega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________ entro a la clase a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________ estudian poco para el ex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________ trabaja en Taco B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________ usan la computad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________ pregunto poco en cl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_______ visitas a tus padres en la na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16920" y="2362320"/>
            <a:ext cx="633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1800" y="1828800"/>
            <a:ext cx="813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9560" y="2819520"/>
            <a:ext cx="613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7120" y="3200400"/>
            <a:ext cx="1721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oso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9200" y="3733920"/>
            <a:ext cx="633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6920" y="5638680"/>
            <a:ext cx="633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9560" y="6095880"/>
            <a:ext cx="613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8120" y="4648320"/>
            <a:ext cx="515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É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920" y="4191120"/>
            <a:ext cx="102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9520" y="5105520"/>
            <a:ext cx="1011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usar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o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rabajar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Contestar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él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Preguntar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Escuchar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usted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Visitar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nosotras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Practicar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tedes 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Pasar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ía y Juana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Entrar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berto y yo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Bailar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ía y Pedro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6960" y="1523880"/>
            <a:ext cx="811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8880" y="2133720"/>
            <a:ext cx="1546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rab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32600" y="2590920"/>
            <a:ext cx="1643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7880" y="3124080"/>
            <a:ext cx="1700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egu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7560" y="3657600"/>
            <a:ext cx="3855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el bombero) escu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41000" y="4267080"/>
            <a:ext cx="1821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si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8760" y="4724280"/>
            <a:ext cx="433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la profesoras) practi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5181480"/>
            <a:ext cx="2514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ellas) p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6640" y="5638680"/>
            <a:ext cx="1780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tr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5920" y="6172200"/>
            <a:ext cx="2355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ellos) bai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Yo _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speak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spañ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Tú _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work)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 María 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dances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 El muchacho 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sings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españ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 Nosotros 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buy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uchas co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. Mi padre 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wants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visitar la esc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 Ellas 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enter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la cl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Los alumnos _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study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 la esc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El perro _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asse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r el par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Ustedes _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ractic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 le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Yo 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visi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a profes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Tú 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liste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 la cl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Pedro y yo _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answe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Yo __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us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 diccion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Ricardo _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ask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10 questions with 10 answers using all of the subject prono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¿Visitas (tú) a tus abuelos en nav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, (yo) visito a mis abuelos en nav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5:45:03Z</dcterms:created>
  <dc:creator>Helen Zumaeta</dc:creator>
  <dc:description/>
  <dc:language>en-US</dc:language>
  <cp:lastModifiedBy>NYCDOE</cp:lastModifiedBy>
  <dcterms:modified xsi:type="dcterms:W3CDTF">2011-12-05T15:31:52Z</dcterms:modified>
  <cp:revision>8</cp:revision>
  <dc:subject/>
  <dc:title>Me llamo _________ Clase 10 NM La fecha es el 20 de octubre del 2011</dc:title>
</cp:coreProperties>
</file>